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852-1658-46BB-AA04-418C01D2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8D8-FB37-4C57-B438-98BCA5D6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E6E8-26E9-430A-A176-B58A8DA6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631-6592-4916-9E94-BFB1CC7E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E735-FF89-4768-A68D-22C7AA31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B753-D175-4904-807B-5F0DB43B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7892-E6D9-4F0C-9A1B-33F271A9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6706-FB33-4258-B02C-42F58564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7F85-D770-46F4-A40E-70A2585B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507B-D445-47E0-9123-614EF685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BD05-2118-421D-BCBE-D6B69774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17F-4E55-4F30-9A24-1B3C6943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21BB-9492-48A0-BCD6-6C3F7190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05D7-1597-4E2B-85C5-A0E4E45E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76FF-A680-4E23-9F70-0533AE59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B28C-DAF1-4140-8F13-FEE0C5F7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01B4-84D9-42D2-BF69-403A5958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F4D-9F5A-49F9-B166-AF781DFC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516-58D5-4C97-BA6D-A1D365FF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394-9AA1-4887-8403-D62338AC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6C6-F52D-49C5-B0A0-550ECF4B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DCB-2D63-40C6-8122-5D6FEFEC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B9D-9610-4A7B-8A38-9625DAD3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CD2-EA53-4C5C-A1B2-7BFFEDCB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E0D9-25E3-4D24-A4D2-22D766D399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3701-61B2-478E-AF76-37FA02BCAE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av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am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ar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0000" y="836640"/>
            <a:ext cx="468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OTIMPUR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imava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amn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3314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ar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19280" y="1700280"/>
            <a:ext cx="59054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8:59:47Z</dcterms:created>
  <dc:creator>AS</dc:creator>
  <dc:description/>
  <dc:language>en-US</dc:language>
  <cp:lastModifiedBy>AS</cp:lastModifiedBy>
  <dcterms:modified xsi:type="dcterms:W3CDTF">2010-01-05T19:56:25Z</dcterms:modified>
  <cp:revision>7</cp:revision>
  <dc:subject/>
  <dc:title>Diapozitivul 1</dc:title>
</cp:coreProperties>
</file>